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24717"/>
        <c:axId val="96760802"/>
      </c:barChart>
      <c:catAx>
        <c:axId val="54824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60802"/>
        <c:crosses val="autoZero"/>
        <c:auto val="1"/>
        <c:lblAlgn val="ctr"/>
        <c:lblOffset val="100"/>
        <c:noMultiLvlLbl val="0"/>
      </c:catAx>
      <c:valAx>
        <c:axId val="96760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24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0CF-2114-4FF2-9CE2-94A7B9A3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D40-9EC7-476D-8CA5-6335D368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9D3-A933-49C8-82B2-5F4CD1A4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656-C878-4C57-B30C-855352A0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CF3-41D8-4C17-AC62-74602095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0EF-1A66-407C-95F3-401B4E50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715-DE56-47EF-B5F2-0398E318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D06-77B1-414E-8B5A-14D5D0A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097-57D5-4FD7-8D42-9D6B1D5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AD9-BB6A-499C-AD88-59A48C6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A9C-84DF-4E24-BCD1-26916EF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CF2-4D6E-4DE0-9474-97B003C8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BB560-A155-469B-8D14-7134547876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