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939"/>
        <c:axId val="47628953"/>
      </c:barChart>
      <c:catAx>
        <c:axId val="8737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8953"/>
        <c:crosses val="autoZero"/>
        <c:auto val="1"/>
        <c:lblAlgn val="ctr"/>
        <c:lblOffset val="100"/>
        <c:noMultiLvlLbl val="0"/>
      </c:catAx>
      <c:valAx>
        <c:axId val="47628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3EF-C583-4B09-87AD-0544ED1E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B10-2458-4CD4-BF1B-1A9F156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C07-7AAB-43CC-9102-BFE1BFA2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677-19F3-4ECF-8799-11D29C29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0DB-8AF6-42E2-922B-8C266919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05A-F2B2-4C46-A9BD-6312E3AE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521-9158-4A00-A898-FE42C02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13D-A41C-420F-9C69-6830BB8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907-1074-45AF-8022-B2EB15B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A77-D337-4A5F-9259-8A049935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A81-7339-4D43-B001-8DDF3BEE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358-A05F-456D-9E2E-3F2D956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2BE1-6562-4D6B-BFAC-B26D29BE8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