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02178"/>
        <c:axId val="68144575"/>
      </c:barChart>
      <c:catAx>
        <c:axId val="19702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44575"/>
        <c:crosses val="autoZero"/>
        <c:auto val="1"/>
        <c:lblAlgn val="ctr"/>
        <c:lblOffset val="100"/>
        <c:noMultiLvlLbl val="0"/>
      </c:catAx>
      <c:valAx>
        <c:axId val="68144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02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73D-5C31-4E28-A2D1-2A1D14C7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214-EB50-4267-920D-43FC2C74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A5D-928A-42AB-AB62-8015703E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3F7-5665-4E28-8BE3-44706B82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472-8203-4BB3-8EE7-292DE380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68D-CB5B-4106-A9FD-1FCFD75E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941-B7F5-409F-9498-8F23CA41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94E-3073-4DD6-89F4-E0E77972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A58-8DB3-4344-974A-9851647D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882-CE4D-4CB5-872C-B4A59DB6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DD6-65CD-48DB-AEAA-C726FF20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DAB-43EB-4B5B-A936-F9518A26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73373-DB3B-4A3A-8F57-0537A0C492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