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1640195"/>
        <c:axId val="10250986"/>
      </c:barChart>
      <c:catAx>
        <c:axId val="7164019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250986"/>
        <c:crosses val="autoZero"/>
        <c:auto val="1"/>
        <c:lblAlgn val="ctr"/>
        <c:lblOffset val="100"/>
        <c:noMultiLvlLbl val="0"/>
      </c:catAx>
      <c:valAx>
        <c:axId val="1025098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64019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53328-B882-438A-BE3A-2E7459D4C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D6D1C-5CC5-4541-BAD6-C43E5E1D7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66237-B82C-431E-BB22-CEBFE677A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F2BF8-06B9-4C84-98B7-C39CF35FB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EB54D-D8F3-4E6F-A31D-9D76C4F52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3EF4D-D3A9-4393-875C-ACF671547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07BF0-2329-479B-834C-AC8D27DAD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E590D-D247-4F08-A332-0038738B0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EF835-E10A-435C-93A0-1E80B13D4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4BF8B-B19D-4284-A387-ED53CF55A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FF67C-8E51-4A45-A387-6005FE879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285D7-84CC-464E-BC91-4C6D9E05A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FAB72E-05CB-4435-99A4-EDEC9AF2A65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