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96415"/>
        <c:axId val="46983760"/>
      </c:barChart>
      <c:catAx>
        <c:axId val="67496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83760"/>
        <c:crosses val="autoZero"/>
        <c:auto val="1"/>
        <c:lblAlgn val="ctr"/>
        <c:lblOffset val="100"/>
        <c:noMultiLvlLbl val="0"/>
      </c:catAx>
      <c:valAx>
        <c:axId val="46983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96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E1D-8CAF-44A9-AE98-D249E22D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10C-90DD-4A38-AE3C-A3FEB5DA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D71A-031E-4067-A963-3958FED2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1420-A246-467B-BDDC-D2559A06A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0D7-2077-4A20-B1C7-352C59FC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FDA-0382-4FE5-A63F-8601923A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B01-063D-4990-AB3A-C2A50A0B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18E7-5CAD-4CFB-9FDD-6E07C479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640-C063-4CB3-939D-85E172DB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F614-0EC0-4785-AC58-D21E2D02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E4A3-0FA6-4D3A-BBFE-FE5AD182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A24-7004-4499-A949-F8E5CB6E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271FD-04C7-46DB-8296-A9935753B9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