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72701"/>
        <c:axId val="50599472"/>
      </c:barChart>
      <c:catAx>
        <c:axId val="38872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99472"/>
        <c:crosses val="autoZero"/>
        <c:auto val="1"/>
        <c:lblAlgn val="ctr"/>
        <c:lblOffset val="100"/>
        <c:noMultiLvlLbl val="0"/>
      </c:catAx>
      <c:valAx>
        <c:axId val="50599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72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A22-4DFE-4737-BC2D-9FB148C6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DF5-9466-44E0-ACDD-93A2BDAB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416-4925-4BE1-9574-49D170FF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5DA-2A7F-4AF9-A074-8D1BDD7E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852-72A9-4885-96F3-FE0F0B47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720-041B-4CBF-B9C7-B80564AD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CD5-0695-459B-A95C-CD9E6420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697-1310-42A3-BDFF-7C2504D5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010-7545-4F07-A933-9EDBFD1C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782-E95C-46DC-8054-745869F5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A02-E38B-42FA-A220-8CCA75F2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34D-A8D9-4D33-9BA1-F4ED4F65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278A6-705F-468B-8BC7-72AFFFB70F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